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D83B-B8B9-4DB9-B409-26FF974C1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77FE-6CCB-4846-B419-6D3FE0EEF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is typical of neo-liberal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C1A4-BA60-442D-AC74-F6D7D9D81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LB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 are a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nvisage ourselves globally but nurture English at expense of multilingu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(Lo Bianco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EE06-C9BF-4903-9BD1-F9EA6FDE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ed against CDA: anyone doing CDA or text based rese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ages of grounded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o-liber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: Federal NPL, ALLP, LFA, Victorian curriculum d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87E4-202D-4D32-B4F6-C590C12EA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 is a multilingual nation. With 30% of students schools speaking a LOTE a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3EA-BF31-4D78-9E0A-03C8FC0F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D80-443D-409D-A8D9-5C7410A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323-AD1F-4AE3-ABC6-40347FF0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98D-0BC8-4E09-B9E0-06E063AD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282A-217F-4011-9777-D9039A00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7049-01B2-44B2-9535-0CB89442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5487-563D-4659-B7DC-DA8D3864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F63F-0C56-4935-88A1-4B6EF5F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DC41-643A-4958-B2D0-078DF949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9F0F-4AB4-4508-8BDA-D9484916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9E8A-CD44-48C4-B6D0-C8119845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DF0-F6C2-4BA9-8156-32263604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4102-5185-4148-93C2-BCE6230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F5FD-82DE-4BCE-B360-8705A006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BCF2-7AEB-4980-AD9E-3EF742BE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5C0E-7038-4F65-A089-639599FA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F2A8-28C3-4170-8A1B-3085DCB2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8CA-F999-4274-B109-99DD6B47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AA6-92ED-4F26-A79D-C9873CB5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264-5872-4525-AAEA-138EE544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7E3-D801-44DE-947F-74BE5E44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417-6CBE-4FA7-8285-B1A79CF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B70-5321-4C33-8AF5-A2C0C3A8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921-77B5-4CED-8EA5-6E9B9145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5080" y="-4680"/>
                <a:ext cx="984240" cy="68306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3440"/>
                <a:ext cx="98424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6880" y="1285560"/>
                <a:ext cx="984240" cy="5040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6880" y="150120"/>
                <a:ext cx="984240" cy="3042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5680"/>
                <a:ext cx="984240" cy="34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8320" y="682920"/>
                <a:ext cx="984240" cy="4312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6520" y="372960"/>
                <a:ext cx="99684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6600"/>
                <a:ext cx="98388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560" y="3537000"/>
                <a:ext cx="983880" cy="50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424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560" y="3230280"/>
                <a:ext cx="983880" cy="348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28600"/>
                <a:ext cx="98424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6480"/>
                <a:ext cx="99684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8720"/>
                <a:ext cx="983880" cy="5004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7240"/>
                <a:ext cx="983880" cy="502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4240"/>
                <a:ext cx="9838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7320"/>
                <a:ext cx="345600" cy="9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8120"/>
                <a:ext cx="98388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880"/>
                <a:ext cx="99684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EF95-450B-4CA2-8ECD-84E3AD100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1752-ABE4-4CAA-A828-AACC40F4E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he discourse of ESL policy: the impact of the ‘literacy crisis’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read Han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of TE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3366"/>
                </a:solidFill>
                <a:latin typeface="Arial"/>
              </a:rPr>
              <a:t>Themes arising from th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Policy style and discours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) A collaborative style and inclusive multicultural discourse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i) A directive style and discourse of economic reform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ii) An imposing style and discourse of crisis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v) A neo-liberal discourse focussed on competition and the individual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Five restriction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) Restriction of languages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i) Restriction of literacy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ii) Restriction of assessment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v) Restriction of voice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v) Restriction of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8" descr="Table 1"/>
          <p:cNvPicPr/>
          <p:nvPr/>
        </p:nvPicPr>
        <p:blipFill>
          <a:blip r:embed="rId1"/>
          <a:stretch/>
        </p:blipFill>
        <p:spPr>
          <a:xfrm>
            <a:off x="1219320" y="-762120"/>
            <a:ext cx="755640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Findin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Neo-liberal state school ‘system’ in Victoria mean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arying practices and difficult to ascertain common practices relating to provision, programs and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SL is fore-grounded, back-grounded and absent in Victorian documents, depending on thei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Manifestations of </a:t>
            </a:r>
            <a:br>
              <a:rPr sz="4400"/>
            </a:b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neo-liberal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government simultaneous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volves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lies accountability and complianc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rketisation of education and prioritisation of choice and the individual. (Apple 200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ults in a lack of voice for minority groups and reflects a simplistic understanding of power. (Faulks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Current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and language are conf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nchmarks and state-regulated tests are designed for native English speakers and disadvantage ES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crisis’ makes individuals responsible for own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ountability measures abound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pt does not ensure that ESL funds are directed towards ESL program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It seems ESL Survey no longer has a compliance measure  but NAP and Multicultural Education hav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Orientation towards language planning in Victo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SL documents can show multilingualism as a resource but also exhibit other orientations as affected by mainstream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eneral documents show multilingualism as a problem: either backgrounds or omits planning for a multilingu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General docu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oLT: no 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teracy Teaching and Learning Paper no. 9: no 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CAA: ESL backgr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ECD: ESL backgrounded or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Diffused practices in Victo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lf managed schools ‘system’ mean there is great variety of practices and difficult to ascer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chools respond to markets and clients: Whose voices? Dominant discour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ESL and litera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is not properly seen as a part of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nchmarks and tests not ESL-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documents and national policy omit ESL (and langu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documents are backgrounded and practices subservient to literacy needs which are ‘in cris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s is re-confirmed in documents, media, schools provision, curriculum -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009 Develop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Curriculum describes EAL/D students well in “consider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LAN assessment continues to be designed for mother tongue English speakers and applied across th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policy broadbanded all ESL funding, including NAP – how many states will have ESL units in 201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this research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ing ESL teacher since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ed to understand what what happening to ESL profession in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basic literacy is the focus to exclusion of othe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any schools don’t provide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eachers and communities seem to have lost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DSC01577"/>
          <p:cNvPicPr/>
          <p:nvPr/>
        </p:nvPicPr>
        <p:blipFill>
          <a:blip r:embed="rId1"/>
          <a:stretch/>
        </p:blipFill>
        <p:spPr>
          <a:xfrm>
            <a:off x="0" y="0"/>
            <a:ext cx="3875040" cy="4862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DSC01590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DSC01589"/>
          <p:cNvPicPr/>
          <p:nvPr/>
        </p:nvPicPr>
        <p:blipFill>
          <a:blip r:embed="rId3"/>
          <a:stretch/>
        </p:blipFill>
        <p:spPr>
          <a:xfrm>
            <a:off x="0" y="4648320"/>
            <a:ext cx="2151000" cy="2868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MG_0141"/>
          <p:cNvPicPr/>
          <p:nvPr/>
        </p:nvPicPr>
        <p:blipFill>
          <a:blip r:embed="rId4"/>
          <a:stretch/>
        </p:blipFill>
        <p:spPr>
          <a:xfrm>
            <a:off x="4495680" y="3809880"/>
            <a:ext cx="5281560" cy="396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SC01585"/>
          <p:cNvPicPr/>
          <p:nvPr/>
        </p:nvPicPr>
        <p:blipFill>
          <a:blip r:embed="rId5"/>
          <a:stretch/>
        </p:blipFill>
        <p:spPr>
          <a:xfrm>
            <a:off x="2133720" y="4800600"/>
            <a:ext cx="286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termined the reasons for changes as relating to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literacy crisis’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 Bianco and Freebody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focus on economic discourse and away from the rights of multilingual Australian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has happened to ES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umed by literacy nee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 Bianco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d into literacy fu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 Bianco, Hammond, Michell 1998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en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ves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and how has this occurred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ined federal language and literacy from 198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ational Policy on Languages (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stralian Language and Literacy Policy (19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teracy For All (19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Victorian docu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Companion to CSF (200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Companion VELS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SL Handbook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Continuum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LT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lueprints (2003; 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Teaching and Learning in Victorian Schools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CAA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search Metho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Discourse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lommaert 2005, Fairclough 1992,1995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ed theo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laser and Strauss19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ociolo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ulks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-liberalism and edu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ppl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search premi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80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olicy and planning for languages and ESL exhibit three orientations (Richard Ruiz 198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as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as a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as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model is most desirabl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for a multilingual 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yne 2005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30% of Victorian students are biling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search proces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ed key words in policy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of comparative, contrastive and incommensu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discourse to wider socio-political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ized about discourses and related to existing literature and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ized ideas relating them clearly to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5:49:11Z</dcterms:created>
  <dc:creator>DE&amp;T user</dc:creator>
  <dc:description/>
  <dc:language>en-US</dc:language>
  <cp:lastModifiedBy>DEET</cp:lastModifiedBy>
  <cp:lastPrinted>2009-05-26T05:02:58Z</cp:lastPrinted>
  <dcterms:modified xsi:type="dcterms:W3CDTF">2009-12-02T01:05:16Z</dcterms:modified>
  <cp:revision>48</cp:revision>
  <dc:subject/>
  <dc:title>The discourse of ESL policy: the impact of the ‘literacy crisis’</dc:title>
</cp:coreProperties>
</file>